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7AC4-7335-4795-9826-AEA63843C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CE55-FA64-4206-8474-981720C0F18C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C169-7BF4-43FB-B0BB-7F2098551C75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8554-11DF-4250-A1E2-2437F8DAE622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ED6E-6B68-4E16-AEB1-BEF8B07F7F58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E043-5413-464C-8FC4-BE229CAA33BF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F984-C81A-421D-8B6E-252F766AA594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0CEE-093A-4A2E-BF4D-7F1C39047D1C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80F4-4D69-483E-83AA-F4D5A418B56F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3D82-DBF2-46B4-977C-1578F5DCD299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7A53-1A37-496B-91E7-39C25F3B6C88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91B1-529D-4CA6-BEE5-A0A57568D306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7399-F76A-476C-9831-C65AD1B11EFE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FBBC-FC71-40F7-89CF-4D692984941A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F8B5-2A2A-4978-B4E1-EF19A8197014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781D-809B-488B-8192-22213165B605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B7C3-53E1-445E-BA0B-13DDF677D1D0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ECA6-F3A8-4B9F-9B52-18C516529043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BA0C-88A4-48A3-A17C-7A7E2AA8F90E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C1E1-E6C4-4CE8-96F3-A73CE7C9E9DB}" type="slidenum">
              <a:rPr b="0" lang="en-US" sz="1200" spc="-1" strike="noStrike">
                <a:solidFill>
                  <a:srgbClr val="272776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7D80-80A4-4413-B9E2-8F2F5DF2EEF8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6F41-08EF-4665-A152-FEC5F4FB5A3F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A133-603D-4523-8BAC-E11329CB008F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8AC4-C83C-48B3-BCAD-908DD1E94C8A}" type="slidenum">
              <a:rPr b="0" lang="en-US" sz="1200" spc="-1" strike="noStrike">
                <a:solidFill>
                  <a:srgbClr val="27277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BB8-303F-4DD0-9640-F2FD592E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793-8858-459C-9DAA-C5B0CE2F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E41E-163E-418B-84BF-8214EB36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95F-8BE4-4357-A4BD-3ADF0963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D607-0736-447F-AB95-1B5D217B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F4AC-5C48-48C3-9C21-B7EDD6E7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5352-14CB-4D0C-A1C9-C2D8F9DA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AF8C-BF7D-46E0-B966-88FEDA66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1CA6-21F6-4746-9EB3-1E2155FA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045F-138E-49AE-BCC6-7C8E8C65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C318-3764-41CA-9FA2-2DC48A5D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CA8-9C97-4E48-9E5E-ED5FF6CA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396A-9E64-4EBD-9397-169EC52F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C5F6-AEFC-4DAF-AABB-284654FA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9707-513A-4D4E-BA5C-E5603009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7039-6B9B-4118-A8D1-B045A26B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2E83-6632-46D6-86F1-A4DFAC68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6002-CCC8-4EF9-8F2D-BA48B1C4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D25-206D-45A0-BB4A-6327EC27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0A3-AA14-4A4C-A199-C7CFF336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F006-AFC9-41E4-8E1C-0C3021E3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2FD-5483-43AB-B0FC-48797856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081-1790-47C2-A7E1-B5A0C13A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5CC-05DE-4C71-9124-76A75194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219320" y="1600200"/>
            <a:ext cx="5925960" cy="9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5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631440" indent="-242640"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2" marL="971280" indent="-194040">
              <a:spcBef>
                <a:spcPts val="15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3" marL="1360080" indent="-194040">
              <a:spcBef>
                <a:spcPts val="15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4" marL="1748520" indent="-194040">
              <a:spcBef>
                <a:spcPts val="15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5" marL="1748520" indent="-194040">
              <a:spcBef>
                <a:spcPts val="15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6" marL="1748520" indent="-194040">
              <a:spcBef>
                <a:spcPts val="15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6CAB-0572-4D9B-AFBA-630A17FE0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5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631440" indent="-242640"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2" marL="971280" indent="-194040"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3" marL="1360080" indent="-194040">
              <a:spcBef>
                <a:spcPts val="15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4" marL="1748520" indent="-194040">
              <a:spcBef>
                <a:spcPts val="15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5" marL="1748520" indent="-194040">
              <a:spcBef>
                <a:spcPts val="15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6" marL="1748520" indent="-194040">
              <a:spcBef>
                <a:spcPts val="15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91404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935C-1AA0-4850-BEF3-4B4B1BD4FEF7}" type="slidenum">
              <a:rPr b="0" lang="en-US" sz="1400" spc="-1" strike="noStrike">
                <a:solidFill>
                  <a:srgbClr val="27277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oogle.com/" TargetMode="External"/><Relationship Id="rId2" Type="http://schemas.openxmlformats.org/officeDocument/2006/relationships/hyperlink" Target="http://altavista.com/" TargetMode="External"/><Relationship Id="rId3" Type="http://schemas.openxmlformats.org/officeDocument/2006/relationships/hyperlink" Target="http://ask.com/" TargetMode="External"/><Relationship Id="rId4" Type="http://schemas.openxmlformats.org/officeDocument/2006/relationships/hyperlink" Target="http://kids.quintura.com/" TargetMode="External"/><Relationship Id="rId5" Type="http://schemas.openxmlformats.org/officeDocument/2006/relationships/hyperlink" Target="http://www.quintura.com/" TargetMode="External"/><Relationship Id="rId6" Type="http://schemas.openxmlformats.org/officeDocument/2006/relationships/hyperlink" Target="http://www.kartoo.com/en_index.htm" TargetMode="External"/><Relationship Id="rId7" Type="http://schemas.openxmlformats.org/officeDocument/2006/relationships/image" Target="../media/image9.png"/><Relationship Id="rId8" Type="http://schemas.openxmlformats.org/officeDocument/2006/relationships/hyperlink" Target="http://dogpile.com/" TargetMode="External"/><Relationship Id="rId9" Type="http://schemas.openxmlformats.org/officeDocument/2006/relationships/image" Target="../media/image9.png"/><Relationship Id="rId10" Type="http://schemas.openxmlformats.org/officeDocument/2006/relationships/hyperlink" Target="http://clusty.com/" TargetMode="External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hyperlink" Target="http://people.coe.ilstu.edu/catoled/teaching/graduate/438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eb.archive.org/web/20040211112206/pubweb.northwestern.edu/~abutz/index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eb.archive.org/web/20040211082209/pubweb.northwestern.edu/~abutz/di/intro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bigredhair.com/robot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networksolutions.com/whois/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www.networksolutions.com/whois/results.jsp?domain=martinlutherking.org" TargetMode="External"/><Relationship Id="rId5" Type="http://schemas.openxmlformats.org/officeDocument/2006/relationships/image" Target="../media/image9.png"/><Relationship Id="rId6" Type="http://schemas.openxmlformats.org/officeDocument/2006/relationships/hyperlink" Target="http://www.whois.sc/" TargetMode="External"/><Relationship Id="rId7" Type="http://schemas.openxmlformats.org/officeDocument/2006/relationships/hyperlink" Target="http://www.whois.sc/" TargetMode="External"/><Relationship Id="rId8" Type="http://schemas.openxmlformats.org/officeDocument/2006/relationships/hyperlink" Target="http://www.stormfront.org/forum/" TargetMode="External"/><Relationship Id="rId9" Type="http://schemas.openxmlformats.org/officeDocument/2006/relationships/image" Target="../media/image9.png"/><Relationship Id="rId10" Type="http://schemas.openxmlformats.org/officeDocument/2006/relationships/hyperlink" Target="http://whois.domaintools.com/martinlutherking.org" TargetMode="External"/><Relationship Id="rId11" Type="http://schemas.openxmlformats.org/officeDocument/2006/relationships/hyperlink" Target="http://www.stormfront.org/forum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martinlutherking.org/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martinlutherking.org/library.html" TargetMode="External"/><Relationship Id="rId5" Type="http://schemas.openxmlformats.org/officeDocument/2006/relationships/image" Target="../media/image9.png"/><Relationship Id="rId6" Type="http://schemas.openxmlformats.org/officeDocument/2006/relationships/hyperlink" Target="http://martinlutherking.org/articles/rosaparks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archive.org/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web.archive.org/web/*/http://martinlutherking.org" TargetMode="External"/><Relationship Id="rId5" Type="http://schemas.openxmlformats.org/officeDocument/2006/relationships/image" Target="../media/image9.png"/><Relationship Id="rId6" Type="http://schemas.openxmlformats.org/officeDocument/2006/relationships/hyperlink" Target="http://web.archive.org/web/19990429203543/http://www.martinlutherking.org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hyperlink" Target="http://www.p21.org/images/stories/otherdocs/P21_Report.pdf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1600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Beyond the Basal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Day #2</a:t>
            </a:r>
            <a:br>
              <a:rPr sz="4000"/>
            </a:b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Literacy and Technology in the classroom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04640" y="3962160"/>
            <a:ext cx="6530760" cy="23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ami Dean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&amp; Dana Karraker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Question 3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4320" y="1980720"/>
            <a:ext cx="6248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rebuchet MS"/>
              </a:rPr>
              <a:t>List as many major search engines as you can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nswers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1120" y="1980720"/>
            <a:ext cx="30826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rebuchet MS"/>
                <a:hlinkClick r:id="rId1"/>
              </a:rPr>
              <a:t>Googl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rebuchet MS"/>
                <a:hlinkClick r:id="rId2"/>
              </a:rPr>
              <a:t>Alta Vista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rebuchet MS"/>
                <a:hlinkClick r:id="rId3"/>
              </a:rPr>
              <a:t>Ask.com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rebuchet MS"/>
                <a:hlinkClick r:id="rId4"/>
              </a:rPr>
              <a:t>Quintura for Kid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rebuchet MS"/>
                <a:hlinkClick r:id="rId5"/>
              </a:rPr>
              <a:t>Quintura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rebuchet MS"/>
                <a:hlinkClick r:id="rId6"/>
              </a:rPr>
              <a:t>Kartoo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Meta-Search Engines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rebuchet MS"/>
                <a:hlinkClick r:id="rId8"/>
              </a:rPr>
              <a:t>Dogpile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rebuchet MS"/>
                <a:hlinkClick r:id="rId10"/>
              </a:rPr>
              <a:t>Clusty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Trebuchet MS"/>
              </a:rPr>
              <a:t>Databases provided by librarie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Question 4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82480" y="2286000"/>
            <a:ext cx="6172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How does a site get to the top of the search results in Google?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nswer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4840" y="2130480"/>
            <a:ext cx="74674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Getting to the top of Google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72776"/>
                </a:solidFill>
                <a:latin typeface="Arial"/>
              </a:rPr>
              <a:t>Google  Bombing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1204920" indent="-30816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Ultimate popularity contest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1204920" indent="-30816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I’ll put your link on my page if you’ll put my link on your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1204920" indent="-308160">
              <a:lnSpc>
                <a:spcPct val="9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Google Bombing story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Question 5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30200" y="1980720"/>
            <a:ext cx="6477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rebuchet MS"/>
              </a:rPr>
              <a:t>What clues in a web address might indicate you are on a personal website?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rebuchet MS"/>
              </a:rPr>
              <a:t>Why is knowing this important?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nswers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6120" y="1980720"/>
            <a:ext cx="67849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ebsite clue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1254240" indent="-285840"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~  or %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1254240" indent="-285840"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72776"/>
                </a:solidFill>
                <a:latin typeface="Trebuchet MS"/>
              </a:rPr>
              <a:t>users, members, people </a:t>
            </a: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in URL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rebuchet MS"/>
              </a:rPr>
              <a:t>Importance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1254240" indent="-285840"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Identifies the author and/or organizatio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Truncating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Being able to read and truncate a URL allows you to get the full picture of the site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Truncating exampl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n Examp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0720" y="1980720"/>
            <a:ext cx="82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Another view of the Holocaus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Is this a public or personal site?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More of Butz’s pages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3181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An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article</a:t>
            </a: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 he published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Let’s truncate and see what we can find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olders, folders, and more folder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nother Examp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Ever heard of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Mechanical Marvels</a:t>
            </a: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hat happens if we truncate this site?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Moral of the story: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Determine the source site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PMI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1980720"/>
            <a:ext cx="77724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Question 6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53880" y="2286000"/>
            <a:ext cx="6629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How do you find the owner or publisher of a website?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hy is it important to know      these facts?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nswer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ebsite owner/publisher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2290680" indent="-361800"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ho I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2" marL="2862360" indent="-45720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MLK search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2290680" indent="-361800"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Who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Is 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Sourc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2" marL="2862360" indent="-4572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MLK search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6094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The owner of this site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nswer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1304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hy is it important?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2290680" indent="-361800"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MLK sit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2" marL="2862360" indent="-45720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Civil Rights Library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2" marL="2862360" indent="-4572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Rosa Park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2" marL="2862360" indent="0">
              <a:spcBef>
                <a:spcPts val="1199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72776"/>
                </a:solidFill>
                <a:latin typeface="Arial"/>
              </a:rPr>
              <a:t>Students have to be able to determine the validity and viewpoint of sites</a:t>
            </a:r>
            <a:endParaRPr b="0" lang="en-US" sz="3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Question 7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68280" y="2286000"/>
            <a:ext cx="4800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How do you find the history of any given website?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What do you do if the site is no longer available?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nswer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4480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Website history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1031760" indent="-30780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Wayback Machine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archive.org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1031760" indent="-30780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Look at MLK.org in the Wayback Machine </a:t>
            </a: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result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2" marL="1603440" indent="-45720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What do you know now?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3" marL="2098800" indent="-381240">
              <a:spcBef>
                <a:spcPts val="901"/>
              </a:spcBef>
              <a:buClr>
                <a:srgbClr val="272776"/>
              </a:buClr>
              <a:buFont typeface="Helvetic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Up since 1999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3" marL="2098800" indent="-381240">
              <a:spcBef>
                <a:spcPts val="901"/>
              </a:spcBef>
              <a:buClr>
                <a:srgbClr val="272776"/>
              </a:buClr>
              <a:buFont typeface="Helvetic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Change in design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 to appeal to kid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6094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Remember the Holocaust example?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Remember Google Bombing?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Google Martin Luther King, Jr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Let’s look again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Google: MLK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Google Bombing story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My Ed Tech network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Resources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November Learning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http://www.novemberlearning.com/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Courses on Internet Literacy for $19.95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Break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ome back in 10 minute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What tools can we use?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980720"/>
            <a:ext cx="77724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Web 2.0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Participatory Culture &amp; the Power of the Network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Creatio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Connectio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ourse Tools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har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VoiceThread of the Day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Blog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Literacy and Literacy Instruction are changing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1001"/>
              </a:spcBef>
              <a:buClr>
                <a:srgbClr val="262673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The use of Web 2.0 tools affects both the learning and teaching environment. 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buClr>
                <a:srgbClr val="262673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Literacy instruction is no longer limited to paper and pencil, basals, and books.  Today's student in accustomed to being a producer of text, not just a passive consumer.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buClr>
                <a:srgbClr val="262673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Students have to "shut down" to come to school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buClr>
                <a:srgbClr val="262673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Web 2.0 tools provide authentic literacy learning experiences for students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buClr>
                <a:srgbClr val="262673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Students can have a world-wide audience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buClr>
                <a:srgbClr val="262673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Students can collaborate with students from anywhere in the world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buClr>
                <a:srgbClr val="262673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Web 2.0 tools are designed to be easy to use, produce, edit, create, and share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1001"/>
              </a:spcBef>
              <a:buClr>
                <a:srgbClr val="262673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Digital Literacy in Action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Response to reading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Digital literacy in “real” classroom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http://classblogmeister.com/blog.php?blogger_id=1337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Some tools to explor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Diigo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Gabcas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Vocarooo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Ning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Some more spaces…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Google Doc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18960" indent="-318960">
              <a:spcBef>
                <a:spcPts val="15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72776"/>
                </a:solidFill>
                <a:uFillTx/>
                <a:latin typeface="Arial"/>
              </a:rPr>
              <a:t>http://www.twiducate.com/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18960" indent="-318960">
              <a:spcBef>
                <a:spcPts val="15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72776"/>
                </a:solidFill>
                <a:uFillTx/>
                <a:latin typeface="Arial"/>
              </a:rPr>
              <a:t>http://teachweb2.wikispaces.com/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18960" indent="-318960">
              <a:spcBef>
                <a:spcPts val="15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72776"/>
                </a:solidFill>
                <a:uFillTx/>
                <a:latin typeface="Arial"/>
              </a:rPr>
              <a:t>http://webtools4u2use.wikispaces.com/Audio+%26+Podcasting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18960" indent="-318960">
              <a:spcBef>
                <a:spcPts val="15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http://k12onlineconference.org/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18960" indent="-318960">
              <a:spcBef>
                <a:spcPts val="15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18960" indent="-318960">
              <a:spcBef>
                <a:spcPts val="15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Putting it all together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Inquiry topic/tex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Matching Inquiry topic to the too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Baby Step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ontinuum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SzPct val="121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72776"/>
                </a:solidFill>
                <a:latin typeface="Arial"/>
              </a:rPr>
              <a:t>Fill out the continuum based on these factors:</a:t>
            </a:r>
            <a:endParaRPr b="0" lang="en-US" sz="27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Kids need to use technology in meaningful way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Technology is used to deepen instruction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21</a:t>
            </a:r>
            <a:r>
              <a:rPr b="0" lang="en-US" sz="2400" spc="-1" strike="noStrike" baseline="30000">
                <a:solidFill>
                  <a:srgbClr val="272776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 century literacie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Knowledge about online tool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6"/>
                </a:solidFill>
                <a:latin typeface="Arial"/>
              </a:rPr>
              <a:t>Access to online tools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http://www.p21.org/images/stories/otherdocs/P21_Report.pdf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Web literacy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hat is web literacy?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hy is it important?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onnection to critical thinking-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Question 1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25560" y="2286000"/>
            <a:ext cx="5486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hat is a URL? 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nswer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URL - Uniform Resource Locator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grpSp>
        <p:nvGrpSpPr>
          <p:cNvPr id="106" name="Group 9"/>
          <p:cNvGrpSpPr/>
          <p:nvPr/>
        </p:nvGrpSpPr>
        <p:grpSpPr>
          <a:xfrm>
            <a:off x="971640" y="2514600"/>
            <a:ext cx="7138800" cy="4014720"/>
            <a:chOff x="971640" y="2514600"/>
            <a:chExt cx="7138800" cy="4014720"/>
          </a:xfrm>
        </p:grpSpPr>
        <p:sp>
          <p:nvSpPr>
            <p:cNvPr id="107" name="Text Box 5"/>
            <p:cNvSpPr/>
            <p:nvPr/>
          </p:nvSpPr>
          <p:spPr>
            <a:xfrm>
              <a:off x="971640" y="6300720"/>
              <a:ext cx="331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72776"/>
                  </a:solidFill>
                  <a:latin typeface="Trebuchet MS"/>
                </a:rPr>
                <a:t>Source: www.novemberlearning.com</a:t>
              </a:r>
              <a:endParaRPr b="0" lang="en-US" sz="1200" spc="-1" strike="noStrike">
                <a:solidFill>
                  <a:srgbClr val="272776"/>
                </a:solidFill>
                <a:latin typeface="Arial"/>
              </a:endParaRPr>
            </a:p>
          </p:txBody>
        </p:sp>
        <p:pic>
          <p:nvPicPr>
            <p:cNvPr id="108" name="Picture 8" descr="URL"/>
            <p:cNvPicPr/>
            <p:nvPr/>
          </p:nvPicPr>
          <p:blipFill>
            <a:blip r:embed="rId1"/>
            <a:stretch/>
          </p:blipFill>
          <p:spPr>
            <a:xfrm>
              <a:off x="1033560" y="2514600"/>
              <a:ext cx="7076880" cy="384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Question 2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4840" y="1980720"/>
            <a:ext cx="74674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Trebuchet MS"/>
              </a:rPr>
              <a:t>Identify these extensions and what they represent: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" name="Rectangle 25"/>
          <p:cNvSpPr/>
          <p:nvPr/>
        </p:nvSpPr>
        <p:spPr>
          <a:xfrm>
            <a:off x="1143000" y="3054240"/>
            <a:ext cx="3276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org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k12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gov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com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edu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" name="Rectangle 26"/>
          <p:cNvSpPr/>
          <p:nvPr/>
        </p:nvSpPr>
        <p:spPr>
          <a:xfrm>
            <a:off x="5181480" y="3054240"/>
            <a:ext cx="33530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ac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net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mil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jp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nswers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3276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org - organizatio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k12 - school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gov - government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com - commerc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edu - college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81480" y="2895480"/>
            <a:ext cx="335304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ac - academic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net - busines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mil - U. S. military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Trebuchet MS"/>
              </a:rPr>
              <a:t>.jp - Japan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3036960" y="2057400"/>
            <a:ext cx="30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Extension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21:22:55Z</dcterms:created>
  <dc:creator>Cheri Toledo</dc:creator>
  <dc:description/>
  <dc:language>en-US</dc:language>
  <cp:lastModifiedBy>Tami</cp:lastModifiedBy>
  <dcterms:modified xsi:type="dcterms:W3CDTF">2010-06-17T12:04:22Z</dcterms:modified>
  <cp:revision>51</cp:revision>
  <dc:subject/>
  <dc:title>PowerPoint Presentation</dc:title>
</cp:coreProperties>
</file>